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D97-1F52-47BB-8724-59504D14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14F-E981-40EC-8F46-C034DE7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32C-4B9C-41BA-8252-F3B38371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7BF-16F6-4253-9801-390781B5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CE1-9213-4399-97F2-A99ACCA9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B70-3A78-4C28-88F7-C40FBCF3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A2B-622C-4CD2-8A48-C83FD36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160-F25F-4529-815D-7D33E453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9F2-6648-4CEF-A414-F5BF4AAF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4A7-690F-41E0-A97D-C451672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D41-65ED-4364-93E9-8F0875A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576-E04E-467C-A605-68D6C5B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07C-9C1A-438E-89D9-4F835509C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472428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762120"/>
            <a:ext cx="57150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48640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Ja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118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1118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04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17"/>
            </a:gs>
            <a:gs pos="50000">
              <a:srgbClr val="ccff33"/>
            </a:gs>
            <a:gs pos="100000">
              <a:srgbClr val="5e751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ade"/>
          <p:cNvPicPr/>
          <p:nvPr/>
        </p:nvPicPr>
        <p:blipFill>
          <a:blip r:embed="rId1"/>
          <a:stretch/>
        </p:blipFill>
        <p:spPr>
          <a:xfrm>
            <a:off x="1447920" y="380880"/>
            <a:ext cx="5638680" cy="403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5486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5627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3341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bert C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286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0000"/>
            </a:gs>
            <a:gs pos="50000">
              <a:srgbClr val="ff0000"/>
            </a:gs>
            <a:gs pos="100000">
              <a:srgbClr val="61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was invented in 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ined instant notoriety when the “Florida Gators” crdited the drink with their first orange bowl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came a household drink when NFL teams pour a jug of Gatorade over coaches when they win the superbow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is made up of water, sugar,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1927 in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rained at the university of Texas Medic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partnered with Stokly-Van Camp who mass-produced an distributed the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working as a medical researcher at U.O.F. (University of Florid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e continues to work as a 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4:28Z</dcterms:created>
  <dc:creator>install</dc:creator>
  <dc:description/>
  <dc:language>en-US</dc:language>
  <cp:lastModifiedBy>install</cp:lastModifiedBy>
  <dcterms:modified xsi:type="dcterms:W3CDTF">2011-06-01T17:35:43Z</dcterms:modified>
  <cp:revision>10</cp:revision>
  <dc:subject/>
  <dc:title>Slide 1</dc:title>
</cp:coreProperties>
</file>